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6C1-10D1-4794-BE17-B6B2699F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310-D32F-4211-B1AB-76CE3992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769-E260-4F6E-89BB-156A059D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7E0-208E-45E5-80F9-945853EC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7FB-5C10-4051-ADA9-129734ED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971-EAFE-4C1D-BC65-9438FF1B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551-BF58-4CB4-8759-4679C2E2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B95-FD24-4921-9E37-029FBE6D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5F9-F113-4828-9B81-135B6131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F6B-80FE-47F4-9E97-CE1E1C6B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518-6BFC-4BD1-86ED-28457D7F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421-A2E3-478F-8D2C-D67D1D7B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DAA7-D6CC-4EC4-ABA2-1EF2E7958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9438947PSFJiw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80880"/>
            <a:ext cx="365760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اح الراعي ونعجاتو     بعز البرد وتلجات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دوا كل بواب الريح     تيدفوا الطفل المسي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السما هديت بالعيد      نجما المتجلي من ب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تيبشر بعهد جديد         تيبشر بعهد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328775GuxgbrFGcs_ph" descr=""/>
          <p:cNvPicPr/>
          <p:nvPr/>
        </p:nvPicPr>
        <p:blipFill>
          <a:blip r:embed="rId2"/>
          <a:stretch/>
        </p:blipFill>
        <p:spPr>
          <a:xfrm>
            <a:off x="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04920"/>
            <a:ext cx="3200400" cy="9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ح تستقبل هالليلة       لمغارة أطهر عي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أم وبي وطفل زغير      خلّوا المجد يصير كب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تغيّر وج الزمان        راح العذاب اللي ك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نطر عباب الإنسان      ينطر عا باب الإنسان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33:27Z</dcterms:created>
  <dc:creator>SUZANNE.MD</dc:creator>
  <dc:description/>
  <dc:language>en-US</dc:language>
  <cp:lastModifiedBy>USER</cp:lastModifiedBy>
  <dcterms:modified xsi:type="dcterms:W3CDTF">2002-12-19T11:14:55Z</dcterms:modified>
  <cp:revision>3</cp:revision>
  <dc:subject/>
  <dc:title>PowerPoint Presentation</dc:title>
</cp:coreProperties>
</file>